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9D5C-CA38-4014-90FB-15F07B6D1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6AC9E-5461-4DA7-865A-D5C476B32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7BE-5C98-4A17-95A5-ABB28DF3A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FF01-C928-4D9D-BFE2-048DAAE8D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B6E-55A7-4E25-8B50-C062E2CD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6917-0BCE-4983-B8C2-6D2A6536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BC0-59D1-4022-AF86-3408A51C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54F-027C-4F7C-8106-CF188723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014D-9139-487B-9613-33B17AC7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4553-E045-457E-9A89-0549E2B8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37A-26C2-4776-BF4C-7235E71D1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D96-EA4A-43BE-A41F-7A0C080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0E78-66B1-4622-A993-FF4E46C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E7BB-ED4E-43B7-A8EE-2BE34E5A6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CDF2-A058-4FF2-BBAD-8482F64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C816-0CAC-4016-9D96-D8BCC59BD7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655640" y="129456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valuating Algebraic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5867280" y="6165720"/>
            <a:ext cx="757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877080" y="6165720"/>
            <a:ext cx="100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>
            <a:hlinkClick r:id="" action="ppaction://hlinkshowjump?jump=previousslide"/>
          </p:cNvPr>
          <p:cNvSpPr/>
          <p:nvPr/>
        </p:nvSpPr>
        <p:spPr>
          <a:xfrm>
            <a:off x="4824360" y="6165720"/>
            <a:ext cx="792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>
            <a:hlinkClick r:id="" action="ppaction://hlinkshowjump?jump=endshow"/>
          </p:cNvPr>
          <p:cNvSpPr/>
          <p:nvPr/>
        </p:nvSpPr>
        <p:spPr>
          <a:xfrm>
            <a:off x="8064360" y="6181560"/>
            <a:ext cx="82872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5840" y="-7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4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066680" y="133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stimating Square R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2120" y="1219320"/>
            <a:ext cx="761976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Math fa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The sum of any number of consecutive odd whole numbers, beginning with 1, is a perfect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Verdana"/>
              </a:rPr>
              <a:t>e.g. 1+3=4, 1+3+5=9, 1+3+5+7=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1: Estimating Square Roots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1295280"/>
            <a:ext cx="801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  55 is between two integers. Name the integers. 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46400" y="266688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List perfect squares near 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2840" y="266688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, 49, 64,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86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9 &lt; 55 &lt;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0" y="3962520"/>
            <a:ext cx="567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square roots of the perfect squ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120" y="2133720"/>
            <a:ext cx="965160" cy="459720"/>
            <a:chOff x="762120" y="2133720"/>
            <a:chExt cx="965160" cy="459720"/>
          </a:xfrm>
        </p:grpSpPr>
        <p:sp>
          <p:nvSpPr>
            <p:cNvPr id="64" name=""/>
            <p:cNvSpPr/>
            <p:nvPr/>
          </p:nvSpPr>
          <p:spPr>
            <a:xfrm>
              <a:off x="941400" y="2133720"/>
              <a:ext cx="78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762120" y="2189160"/>
              <a:ext cx="731520" cy="285480"/>
              <a:chOff x="762120" y="2189160"/>
              <a:chExt cx="731520" cy="285480"/>
            </a:xfrm>
          </p:grpSpPr>
          <p:sp>
            <p:nvSpPr>
              <p:cNvPr id="66" name=""/>
              <p:cNvSpPr/>
              <p:nvPr/>
            </p:nvSpPr>
            <p:spPr>
              <a:xfrm>
                <a:off x="791640" y="2267640"/>
                <a:ext cx="10296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762120" y="2260080"/>
                <a:ext cx="3528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890280" y="2189160"/>
                <a:ext cx="157680" cy="28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44360" y="2192760"/>
                <a:ext cx="449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838080" y="5197320"/>
            <a:ext cx="7758000" cy="825480"/>
            <a:chOff x="838080" y="5197320"/>
            <a:chExt cx="7758000" cy="825480"/>
          </a:xfrm>
        </p:grpSpPr>
        <p:sp>
          <p:nvSpPr>
            <p:cNvPr id="71" name=""/>
            <p:cNvSpPr/>
            <p:nvPr/>
          </p:nvSpPr>
          <p:spPr>
            <a:xfrm>
              <a:off x="1022040" y="5197320"/>
              <a:ext cx="757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55  is between 7 and 8 because 55 is between 49 and 6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838080" y="5278320"/>
              <a:ext cx="763920" cy="285840"/>
              <a:chOff x="838080" y="5278320"/>
              <a:chExt cx="763920" cy="285840"/>
            </a:xfrm>
          </p:grpSpPr>
          <p:sp>
            <p:nvSpPr>
              <p:cNvPr id="73" name=""/>
              <p:cNvSpPr/>
              <p:nvPr/>
            </p:nvSpPr>
            <p:spPr>
              <a:xfrm>
                <a:off x="869040" y="5356800"/>
                <a:ext cx="10764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838080" y="5348880"/>
                <a:ext cx="3672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971640" y="5278320"/>
                <a:ext cx="16452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132920" y="5281560"/>
                <a:ext cx="469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1371240" y="1352520"/>
            <a:ext cx="609480" cy="285840"/>
            <a:chOff x="1371240" y="1352520"/>
            <a:chExt cx="609480" cy="285840"/>
          </a:xfrm>
        </p:grpSpPr>
        <p:sp>
          <p:nvSpPr>
            <p:cNvPr id="78" name=""/>
            <p:cNvSpPr/>
            <p:nvPr/>
          </p:nvSpPr>
          <p:spPr>
            <a:xfrm>
              <a:off x="1396080" y="1431000"/>
              <a:ext cx="85680" cy="20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1371240" y="1423080"/>
              <a:ext cx="29160" cy="3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478160" y="1352520"/>
              <a:ext cx="131400" cy="28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06680" y="1355760"/>
              <a:ext cx="374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124080" y="32767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ff"/>
                </a:solidFill>
                <a:latin typeface="Verdana"/>
              </a:rPr>
              <a:t>Find the perfect squares nearest 5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1760" y="3984480"/>
            <a:ext cx="2895480" cy="459720"/>
            <a:chOff x="761760" y="3984480"/>
            <a:chExt cx="2895480" cy="459720"/>
          </a:xfrm>
        </p:grpSpPr>
        <p:grpSp>
          <p:nvGrpSpPr>
            <p:cNvPr id="84" name=""/>
            <p:cNvGrpSpPr/>
            <p:nvPr/>
          </p:nvGrpSpPr>
          <p:grpSpPr>
            <a:xfrm>
              <a:off x="761760" y="4051080"/>
              <a:ext cx="533160" cy="285840"/>
              <a:chOff x="761760" y="4051080"/>
              <a:chExt cx="533160" cy="285840"/>
            </a:xfrm>
          </p:grpSpPr>
          <p:sp>
            <p:nvSpPr>
              <p:cNvPr id="85" name=""/>
              <p:cNvSpPr/>
              <p:nvPr/>
            </p:nvSpPr>
            <p:spPr>
              <a:xfrm>
                <a:off x="78372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>
                <a:off x="76176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85536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6768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838080" y="3984480"/>
              <a:ext cx="281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49 &lt;  55 &lt;  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1694880" y="4051080"/>
              <a:ext cx="533160" cy="285840"/>
              <a:chOff x="1694880" y="4051080"/>
              <a:chExt cx="533160" cy="285840"/>
            </a:xfrm>
          </p:grpSpPr>
          <p:sp>
            <p:nvSpPr>
              <p:cNvPr id="91" name=""/>
              <p:cNvSpPr/>
              <p:nvPr/>
            </p:nvSpPr>
            <p:spPr>
              <a:xfrm>
                <a:off x="171684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169488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178848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0080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2666520" y="4051080"/>
              <a:ext cx="533160" cy="285840"/>
              <a:chOff x="2666520" y="4051080"/>
              <a:chExt cx="533160" cy="285840"/>
            </a:xfrm>
          </p:grpSpPr>
          <p:sp>
            <p:nvSpPr>
              <p:cNvPr id="96" name=""/>
              <p:cNvSpPr/>
              <p:nvPr/>
            </p:nvSpPr>
            <p:spPr>
              <a:xfrm>
                <a:off x="2688480" y="412956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2666520" y="41216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2760120" y="4051080"/>
                <a:ext cx="114840" cy="28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872440" y="40543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" name=""/>
          <p:cNvGrpSpPr/>
          <p:nvPr/>
        </p:nvGrpSpPr>
        <p:grpSpPr>
          <a:xfrm>
            <a:off x="590400" y="4648320"/>
            <a:ext cx="2819520" cy="459720"/>
            <a:chOff x="590400" y="4648320"/>
            <a:chExt cx="2819520" cy="459720"/>
          </a:xfrm>
        </p:grpSpPr>
        <p:sp>
          <p:nvSpPr>
            <p:cNvPr id="101" name=""/>
            <p:cNvSpPr/>
            <p:nvPr/>
          </p:nvSpPr>
          <p:spPr>
            <a:xfrm>
              <a:off x="590400" y="4648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7 &lt;   55 &lt;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476000" y="4714920"/>
              <a:ext cx="533160" cy="285480"/>
              <a:chOff x="1476000" y="4714920"/>
              <a:chExt cx="533160" cy="285480"/>
            </a:xfrm>
          </p:grpSpPr>
          <p:sp>
            <p:nvSpPr>
              <p:cNvPr id="103" name=""/>
              <p:cNvSpPr/>
              <p:nvPr/>
            </p:nvSpPr>
            <p:spPr>
              <a:xfrm>
                <a:off x="1497960" y="4793400"/>
                <a:ext cx="74880" cy="201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1476000" y="4785840"/>
                <a:ext cx="25560" cy="30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1569600" y="4714920"/>
                <a:ext cx="114840" cy="28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81920" y="4718520"/>
                <a:ext cx="327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3360" y="684360"/>
            <a:ext cx="908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: Approximating Square Roots to the Nearest Hundre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520" y="2705040"/>
            <a:ext cx="24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1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5 &lt; 1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6880" y="314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200" y="5516640"/>
            <a:ext cx="641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hole number part of the answer is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57080" y="2697120"/>
            <a:ext cx="517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perfect squares nearest 1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8120" y="35514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square roots of the perfect squ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05280" y="3573360"/>
            <a:ext cx="2971080" cy="481680"/>
            <a:chOff x="305280" y="3573360"/>
            <a:chExt cx="2971080" cy="481680"/>
          </a:xfrm>
        </p:grpSpPr>
        <p:sp>
          <p:nvSpPr>
            <p:cNvPr id="114" name=""/>
            <p:cNvSpPr/>
            <p:nvPr/>
          </p:nvSpPr>
          <p:spPr>
            <a:xfrm>
              <a:off x="305280" y="3581280"/>
              <a:ext cx="13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 &lt;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88080" y="3595320"/>
              <a:ext cx="12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5 &lt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579680" y="3649320"/>
              <a:ext cx="46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32800" y="3581280"/>
              <a:ext cx="9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1560" y="3635280"/>
              <a:ext cx="461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27680" y="3573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27200" y="3636720"/>
              <a:ext cx="462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11280" y="4560840"/>
            <a:ext cx="2390040" cy="488160"/>
            <a:chOff x="611280" y="4560840"/>
            <a:chExt cx="2390040" cy="488160"/>
          </a:xfrm>
        </p:grpSpPr>
        <p:grpSp>
          <p:nvGrpSpPr>
            <p:cNvPr id="122" name=""/>
            <p:cNvGrpSpPr/>
            <p:nvPr/>
          </p:nvGrpSpPr>
          <p:grpSpPr>
            <a:xfrm>
              <a:off x="611280" y="4560840"/>
              <a:ext cx="2390040" cy="488160"/>
              <a:chOff x="611280" y="4560840"/>
              <a:chExt cx="2390040" cy="488160"/>
            </a:xfrm>
          </p:grpSpPr>
          <p:sp>
            <p:nvSpPr>
              <p:cNvPr id="123" name=""/>
              <p:cNvSpPr/>
              <p:nvPr/>
            </p:nvSpPr>
            <p:spPr>
              <a:xfrm>
                <a:off x="611280" y="4560840"/>
                <a:ext cx="108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1 &lt;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32000" y="457524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133360" y="4575240"/>
                <a:ext cx="86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&lt; 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223640" y="458928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√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565280" y="4653000"/>
              <a:ext cx="52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12360" y="201132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value of the whole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8120" y="45417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The number will be between 11 and 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7000" y="1447920"/>
            <a:ext cx="8694720" cy="459720"/>
            <a:chOff x="297000" y="1447920"/>
            <a:chExt cx="8694720" cy="459720"/>
          </a:xfrm>
        </p:grpSpPr>
        <p:sp>
          <p:nvSpPr>
            <p:cNvPr id="131" name=""/>
            <p:cNvSpPr/>
            <p:nvPr/>
          </p:nvSpPr>
          <p:spPr>
            <a:xfrm>
              <a:off x="297000" y="144792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32120" y="148896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3360" y="64332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8520" y="24732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5 – 121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6880" y="292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0000" y="53532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 ÷ 23 ≈ 0.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18040" y="2244600"/>
            <a:ext cx="592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difference between the given number, 135, and the lower perfect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31480" y="125424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97000" y="1254240"/>
            <a:ext cx="8694720" cy="459720"/>
            <a:chOff x="297000" y="1254240"/>
            <a:chExt cx="8694720" cy="459720"/>
          </a:xfrm>
        </p:grpSpPr>
        <p:sp>
          <p:nvSpPr>
            <p:cNvPr id="140" name=""/>
            <p:cNvSpPr/>
            <p:nvPr/>
          </p:nvSpPr>
          <p:spPr>
            <a:xfrm>
              <a:off x="297000" y="125424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2120" y="129528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595440" y="178740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value of the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466416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Write the difference as a rat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3200" y="35719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4 – 121 = 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22720" y="3343320"/>
            <a:ext cx="554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Find the difference between the greater perfect square and the lower perfect squ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120" y="4530600"/>
            <a:ext cx="6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Divide to find the approximate decim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3360" y="608400"/>
            <a:ext cx="90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2 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7800" y="281952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+ 0.609 = 11.6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6880" y="28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6640" y="2682720"/>
            <a:ext cx="516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Combine the whole number and deci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0600" y="2057400"/>
            <a:ext cx="52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ep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Find the approximat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8480" y="3809880"/>
            <a:ext cx="22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60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1.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89480" y="3778200"/>
            <a:ext cx="54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ound to the nearest hundred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57200" y="4800600"/>
            <a:ext cx="8244000" cy="764280"/>
            <a:chOff x="457200" y="4800600"/>
            <a:chExt cx="8244000" cy="764280"/>
          </a:xfrm>
        </p:grpSpPr>
        <p:sp>
          <p:nvSpPr>
            <p:cNvPr id="156" name=""/>
            <p:cNvSpPr/>
            <p:nvPr/>
          </p:nvSpPr>
          <p:spPr>
            <a:xfrm>
              <a:off x="457200" y="4800600"/>
              <a:ext cx="824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The approximate value of   135 to the nearest hundredth is 11.61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198680" y="4865760"/>
              <a:ext cx="873000" cy="247680"/>
              <a:chOff x="4198680" y="4865760"/>
              <a:chExt cx="873000" cy="247680"/>
            </a:xfrm>
          </p:grpSpPr>
          <p:sp>
            <p:nvSpPr>
              <p:cNvPr id="158" name=""/>
              <p:cNvSpPr/>
              <p:nvPr/>
            </p:nvSpPr>
            <p:spPr>
              <a:xfrm>
                <a:off x="4234320" y="4933800"/>
                <a:ext cx="122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198680" y="4926960"/>
                <a:ext cx="42120" cy="2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4352040" y="4865760"/>
                <a:ext cx="187920" cy="24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35640" y="4868640"/>
                <a:ext cx="536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" name=""/>
          <p:cNvGrpSpPr/>
          <p:nvPr/>
        </p:nvGrpSpPr>
        <p:grpSpPr>
          <a:xfrm>
            <a:off x="297000" y="1254240"/>
            <a:ext cx="8694720" cy="459720"/>
            <a:chOff x="297000" y="1254240"/>
            <a:chExt cx="8694720" cy="459720"/>
          </a:xfrm>
        </p:grpSpPr>
        <p:sp>
          <p:nvSpPr>
            <p:cNvPr id="163" name=""/>
            <p:cNvSpPr/>
            <p:nvPr/>
          </p:nvSpPr>
          <p:spPr>
            <a:xfrm>
              <a:off x="297000" y="1254240"/>
              <a:ext cx="869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pproximate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√135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to the nearest hundredth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32120" y="1295280"/>
              <a:ext cx="673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609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 Black"/>
              </a:rPr>
              <a:t>Example 3: Using a Calculator to Estimate the Value of a Square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040" y="1571760"/>
            <a:ext cx="7597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Use a calculator to find    600. Round to the nearest ten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138280" y="1633680"/>
            <a:ext cx="1109880" cy="317520"/>
            <a:chOff x="5138280" y="1633680"/>
            <a:chExt cx="1109880" cy="317520"/>
          </a:xfrm>
        </p:grpSpPr>
        <p:sp>
          <p:nvSpPr>
            <p:cNvPr id="168" name=""/>
            <p:cNvSpPr/>
            <p:nvPr/>
          </p:nvSpPr>
          <p:spPr>
            <a:xfrm>
              <a:off x="5183640" y="1720800"/>
              <a:ext cx="15624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138280" y="1712160"/>
              <a:ext cx="53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333040" y="1633680"/>
              <a:ext cx="23904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6680" y="1637280"/>
              <a:ext cx="681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69960" y="34750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 ≈ 24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761760" y="2743200"/>
            <a:ext cx="3429720" cy="459720"/>
            <a:chOff x="761760" y="2743200"/>
            <a:chExt cx="3429720" cy="459720"/>
          </a:xfrm>
        </p:grpSpPr>
        <p:sp>
          <p:nvSpPr>
            <p:cNvPr id="174" name=""/>
            <p:cNvSpPr/>
            <p:nvPr/>
          </p:nvSpPr>
          <p:spPr>
            <a:xfrm>
              <a:off x="886680" y="2743200"/>
              <a:ext cx="330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600 ≈ 24.494897…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761760" y="2803320"/>
              <a:ext cx="860400" cy="317520"/>
              <a:chOff x="761760" y="2803320"/>
              <a:chExt cx="860400" cy="317520"/>
            </a:xfrm>
          </p:grpSpPr>
          <p:sp>
            <p:nvSpPr>
              <p:cNvPr id="176" name=""/>
              <p:cNvSpPr/>
              <p:nvPr/>
            </p:nvSpPr>
            <p:spPr>
              <a:xfrm>
                <a:off x="796680" y="2890440"/>
                <a:ext cx="121320" cy="223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761760" y="2881800"/>
                <a:ext cx="41400" cy="33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912600" y="2803320"/>
                <a:ext cx="185400" cy="317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094040" y="2806920"/>
                <a:ext cx="528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762120" y="3537000"/>
            <a:ext cx="926640" cy="317520"/>
            <a:chOff x="762120" y="3537000"/>
            <a:chExt cx="926640" cy="317520"/>
          </a:xfrm>
        </p:grpSpPr>
        <p:sp>
          <p:nvSpPr>
            <p:cNvPr id="181" name=""/>
            <p:cNvSpPr/>
            <p:nvPr/>
          </p:nvSpPr>
          <p:spPr>
            <a:xfrm>
              <a:off x="799560" y="3624120"/>
              <a:ext cx="1306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62120" y="3615480"/>
              <a:ext cx="44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924480" y="3537000"/>
              <a:ext cx="19980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19600" y="3540600"/>
              <a:ext cx="56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0840" y="275256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Use a calcul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5680" y="34290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65ff"/>
                </a:solidFill>
                <a:latin typeface="Verdana"/>
              </a:rPr>
              <a:t>Round to the nearest ten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4572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 rounded to the nearest tenth is 24.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77960" y="4633920"/>
            <a:ext cx="926640" cy="317520"/>
            <a:chOff x="777960" y="4633920"/>
            <a:chExt cx="926640" cy="317520"/>
          </a:xfrm>
        </p:grpSpPr>
        <p:sp>
          <p:nvSpPr>
            <p:cNvPr id="189" name=""/>
            <p:cNvSpPr/>
            <p:nvPr/>
          </p:nvSpPr>
          <p:spPr>
            <a:xfrm>
              <a:off x="815400" y="4721040"/>
              <a:ext cx="13068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77960" y="4712400"/>
              <a:ext cx="44640" cy="3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940320" y="4633920"/>
              <a:ext cx="199800" cy="317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5440" y="4637520"/>
              <a:ext cx="56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13:56:17Z</dcterms:created>
  <dc:creator/>
  <dc:description/>
  <dc:language>en-US</dc:language>
  <cp:lastModifiedBy>Miller Teacher</cp:lastModifiedBy>
  <dcterms:modified xsi:type="dcterms:W3CDTF">2010-11-04T18:18:45Z</dcterms:modified>
  <cp:revision>156</cp:revision>
  <dc:subject/>
  <dc:title>PowerPoint Presentation</dc:title>
</cp:coreProperties>
</file>